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F88-39B2-476F-9FBD-B0EA5D2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7C6-A0BE-4FBF-93B2-608F47F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DE5-AAE0-454C-8E9B-AC108FFE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DBC-3E97-467C-8B2E-DD4C9A2A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3FF-EAC8-446A-B165-76F7FFB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5C5-91FC-421C-9AC7-AE26CA6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EA0-5F4A-4E4B-A33F-EFC54E06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301-5FE6-4778-AE06-3A49E6F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5AA-17BF-4EBC-A9A6-239ED2A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5A0-48AF-4ED7-A0BB-A744687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6C0-D31D-4774-BAAC-904FFE8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3A5-4968-4F3C-9520-D51F3F9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6B7-CD58-441C-9D74-1C5B8CDD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.png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oleObject" Target="../embeddings/oleObject3.bin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1.png"/><Relationship Id="rId32" Type="http://schemas.openxmlformats.org/officeDocument/2006/relationships/image" Target="../media/image2.wmf"/><Relationship Id="rId33" Type="http://schemas.openxmlformats.org/officeDocument/2006/relationships/image" Target="../media/image3.wmf"/><Relationship Id="rId34" Type="http://schemas.openxmlformats.org/officeDocument/2006/relationships/oleObject" Target="../embeddings/oleObject4.bin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1.png"/><Relationship Id="rId42" Type="http://schemas.openxmlformats.org/officeDocument/2006/relationships/image" Target="../media/image2.wmf"/><Relationship Id="rId43" Type="http://schemas.openxmlformats.org/officeDocument/2006/relationships/image" Target="../media/image3.wmf"/><Relationship Id="rId44" Type="http://schemas.openxmlformats.org/officeDocument/2006/relationships/oleObject" Target="../embeddings/oleObject5.bin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6.png"/><Relationship Id="rId51" Type="http://schemas.openxmlformats.org/officeDocument/2006/relationships/image" Target="../media/image1.png"/><Relationship Id="rId52" Type="http://schemas.openxmlformats.org/officeDocument/2006/relationships/image" Target="../media/image2.wmf"/><Relationship Id="rId53" Type="http://schemas.openxmlformats.org/officeDocument/2006/relationships/image" Target="../media/image3.wmf"/><Relationship Id="rId54" Type="http://schemas.openxmlformats.org/officeDocument/2006/relationships/oleObject" Target="../embeddings/oleObject6.bin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1.png"/><Relationship Id="rId62" Type="http://schemas.openxmlformats.org/officeDocument/2006/relationships/image" Target="../media/image2.wmf"/><Relationship Id="rId63" Type="http://schemas.openxmlformats.org/officeDocument/2006/relationships/image" Target="../media/image3.wmf"/><Relationship Id="rId64" Type="http://schemas.openxmlformats.org/officeDocument/2006/relationships/oleObject" Target="../embeddings/oleObject7.bin"/><Relationship Id="rId65" Type="http://schemas.openxmlformats.org/officeDocument/2006/relationships/image" Target="../media/image4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6.png"/><Relationship Id="rId71" Type="http://schemas.openxmlformats.org/officeDocument/2006/relationships/image" Target="../media/image1.png"/><Relationship Id="rId72" Type="http://schemas.openxmlformats.org/officeDocument/2006/relationships/image" Target="../media/image2.wmf"/><Relationship Id="rId73" Type="http://schemas.openxmlformats.org/officeDocument/2006/relationships/image" Target="../media/image3.wmf"/><Relationship Id="rId74" Type="http://schemas.openxmlformats.org/officeDocument/2006/relationships/oleObject" Target="../embeddings/oleObject8.bin"/><Relationship Id="rId75" Type="http://schemas.openxmlformats.org/officeDocument/2006/relationships/image" Target="../media/image4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6.png"/><Relationship Id="rId81" Type="http://schemas.openxmlformats.org/officeDocument/2006/relationships/image" Target="../media/image1.png"/><Relationship Id="rId82" Type="http://schemas.openxmlformats.org/officeDocument/2006/relationships/image" Target="../media/image2.wmf"/><Relationship Id="rId83" Type="http://schemas.openxmlformats.org/officeDocument/2006/relationships/image" Target="../media/image3.wmf"/><Relationship Id="rId84" Type="http://schemas.openxmlformats.org/officeDocument/2006/relationships/oleObject" Target="../embeddings/oleObject9.bin"/><Relationship Id="rId85" Type="http://schemas.openxmlformats.org/officeDocument/2006/relationships/image" Target="../media/image4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6.png"/><Relationship Id="rId91" Type="http://schemas.openxmlformats.org/officeDocument/2006/relationships/image" Target="../media/image1.png"/><Relationship Id="rId92" Type="http://schemas.openxmlformats.org/officeDocument/2006/relationships/image" Target="../media/image2.wmf"/><Relationship Id="rId93" Type="http://schemas.openxmlformats.org/officeDocument/2006/relationships/image" Target="../media/image3.wmf"/><Relationship Id="rId94" Type="http://schemas.openxmlformats.org/officeDocument/2006/relationships/oleObject" Target="../embeddings/oleObject10.bin"/><Relationship Id="rId95" Type="http://schemas.openxmlformats.org/officeDocument/2006/relationships/image" Target="../media/image4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6.png"/><Relationship Id="rId10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8440" y="169920"/>
            <a:ext cx="3168720" cy="1924560"/>
            <a:chOff x="298440" y="169920"/>
            <a:chExt cx="3168720" cy="1924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229" t="0" r="6520" b="0"/>
            <a:stretch/>
          </p:blipFill>
          <p:spPr>
            <a:xfrm>
              <a:off x="298440" y="16992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98440" y="172404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1451160" y="142092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104840" y="16992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1520" y="60156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8520" y="145116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365040" y="150336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"/>
            <p:cNvGraphicFramePr/>
            <p:nvPr/>
          </p:nvGraphicFramePr>
          <p:xfrm>
            <a:off x="1790640" y="1573200"/>
            <a:ext cx="152640" cy="13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90640" y="157320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608480" y="139716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680" y="171936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55088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371520" y="51912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457200" y="44136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542880" y="36360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633600" y="20628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flipV="1">
              <a:off x="2862360" y="32688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41840" y="25092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 rot="10800000">
              <a:off x="2956320" y="34308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 rot="10800000">
              <a:off x="2942280" y="25776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3041280" y="34488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040" y="23832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76760" y="27864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876760" y="28980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90052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88288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90052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8288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965680" y="2786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965680" y="2898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989440" y="28116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97180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989440" y="29376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7180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046320" y="27864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046320" y="28980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07044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5280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7044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05280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2640" y="34596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10040" y="24768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137040" y="2786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37040" y="2898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15936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143160" y="2811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5936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143160" y="2937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01920" y="34920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01920" y="38088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95800" y="37296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99040" y="3841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99040" y="3841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06960" y="3920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9040" y="399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9040" y="3999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06960" y="4078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99040" y="414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99040" y="4143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06960" y="4222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99040" y="4302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9040" y="4302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06960" y="4381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99040" y="4460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99040" y="4460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06960" y="4539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9040" y="46188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99040" y="46188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6960" y="4683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99040" y="4762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99040" y="4762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06960" y="4842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99040" y="4921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99040" y="4921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06960" y="50004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99040" y="5065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9040" y="5065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06960" y="5144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9040" y="52236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13080" y="52884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4920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95800" y="36216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64120" y="24120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3720" y="24624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68800" y="27936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287880" y="28332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287880" y="29376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36840" y="28584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301920" y="28584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36840" y="29700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301920" y="29700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1360" y="29520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805120" y="146700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3500280" y="171360"/>
            <a:ext cx="3168720" cy="1924560"/>
            <a:chOff x="3500280" y="171360"/>
            <a:chExt cx="3168720" cy="1924560"/>
          </a:xfrm>
        </p:grpSpPr>
        <p:pic>
          <p:nvPicPr>
            <p:cNvPr id="136" name="" descr=""/>
            <p:cNvPicPr/>
            <p:nvPr/>
          </p:nvPicPr>
          <p:blipFill>
            <a:blip r:embed="rId11"/>
            <a:srcRect l="6229" t="0" r="6520" b="0"/>
            <a:stretch/>
          </p:blipFill>
          <p:spPr>
            <a:xfrm>
              <a:off x="3500280" y="17136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00280" y="172548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2"/>
            <a:stretch/>
          </p:blipFill>
          <p:spPr>
            <a:xfrm>
              <a:off x="4653000" y="142236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306680" y="17136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3360" y="60300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00360" y="145260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3"/>
            <a:stretch/>
          </p:blipFill>
          <p:spPr>
            <a:xfrm>
              <a:off x="3566880" y="150480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4992480" y="1574640"/>
            <a:ext cx="152640" cy="135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992480" y="157464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4810320" y="139860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57520" y="172080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55232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6"/>
            <a:stretch/>
          </p:blipFill>
          <p:spPr>
            <a:xfrm>
              <a:off x="3573360" y="52056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7"/>
            <a:stretch/>
          </p:blipFill>
          <p:spPr>
            <a:xfrm>
              <a:off x="3659040" y="44280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8"/>
            <a:stretch/>
          </p:blipFill>
          <p:spPr>
            <a:xfrm>
              <a:off x="3744720" y="36504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9"/>
            <a:stretch/>
          </p:blipFill>
          <p:spPr>
            <a:xfrm>
              <a:off x="3835440" y="20772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V="1">
              <a:off x="6064200" y="32832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43680" y="25236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 rot="10800000">
              <a:off x="6158160" y="34452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 rot="10800000">
              <a:off x="6144120" y="25920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0800000">
              <a:off x="6243120" y="34632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30880" y="23976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078600" y="28008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078600" y="29124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10236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08472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10236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8472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167520" y="2800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167520" y="2912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191280" y="28260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17364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91280" y="29520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17364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248160" y="28008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248160" y="29124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27228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25464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27228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25464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24480" y="34740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11880" y="24912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338880" y="2800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338880" y="2912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36120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345000" y="2826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36120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345000" y="2952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03760" y="35064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3760" y="38232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97640" y="37440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00880" y="3855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0880" y="3855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08800" y="3934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00880" y="4014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00880" y="40140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08800" y="40932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00880" y="4158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0880" y="4158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8800" y="4237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0880" y="4316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00880" y="4316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8800" y="4395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00880" y="4474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00880" y="4474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08800" y="4554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00880" y="46332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00880" y="4633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08800" y="4698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00880" y="4777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00880" y="4777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08800" y="4856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00880" y="4935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0880" y="4935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8800" y="5014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00880" y="507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0880" y="5079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08800" y="5158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00880" y="52380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14920" y="53028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19600" y="35064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97640" y="36360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65960" y="24264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05560" y="24768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0640" y="28080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89720" y="28476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489720" y="29520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38680" y="28728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03760" y="28728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538680" y="29844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503760" y="29844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83200" y="29664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20"/>
            <a:stretch/>
          </p:blipFill>
          <p:spPr>
            <a:xfrm>
              <a:off x="6006960" y="146844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298440" y="2092320"/>
            <a:ext cx="3168720" cy="1924560"/>
            <a:chOff x="298440" y="2092320"/>
            <a:chExt cx="3168720" cy="1924560"/>
          </a:xfrm>
        </p:grpSpPr>
        <p:pic>
          <p:nvPicPr>
            <p:cNvPr id="230" name="" descr=""/>
            <p:cNvPicPr/>
            <p:nvPr/>
          </p:nvPicPr>
          <p:blipFill>
            <a:blip r:embed="rId21"/>
            <a:srcRect l="6229" t="0" r="6520" b="0"/>
            <a:stretch/>
          </p:blipFill>
          <p:spPr>
            <a:xfrm>
              <a:off x="298440" y="209232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98440" y="364644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2"/>
            <a:stretch/>
          </p:blipFill>
          <p:spPr>
            <a:xfrm>
              <a:off x="1451160" y="334332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104840" y="209232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1520" y="252396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8520" y="337356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3"/>
            <a:stretch/>
          </p:blipFill>
          <p:spPr>
            <a:xfrm>
              <a:off x="365040" y="342576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7" name=""/>
            <p:cNvGraphicFramePr/>
            <p:nvPr/>
          </p:nvGraphicFramePr>
          <p:xfrm>
            <a:off x="1790640" y="3495600"/>
            <a:ext cx="152640" cy="1350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1790640" y="349560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1608480" y="331956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5680" y="364176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9040" y="347328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6"/>
            <a:stretch/>
          </p:blipFill>
          <p:spPr>
            <a:xfrm>
              <a:off x="371520" y="244152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7"/>
            <a:stretch/>
          </p:blipFill>
          <p:spPr>
            <a:xfrm>
              <a:off x="457200" y="236376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8"/>
            <a:stretch/>
          </p:blipFill>
          <p:spPr>
            <a:xfrm>
              <a:off x="542880" y="228600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9"/>
            <a:stretch/>
          </p:blipFill>
          <p:spPr>
            <a:xfrm>
              <a:off x="633600" y="212868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flipV="1">
              <a:off x="2862360" y="224928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841840" y="217332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 rot="10800000">
              <a:off x="2956320" y="226548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 rot="10800000">
              <a:off x="2942280" y="218016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 rot="10800000">
              <a:off x="3041280" y="226728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29040" y="216072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76760" y="220104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76760" y="221220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0052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88288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0052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8288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965680" y="22010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965680" y="22122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989440" y="220356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97180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989440" y="221616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97180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046320" y="220104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046320" y="221220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07044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5280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07044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05280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22640" y="226836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10040" y="217008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137040" y="22010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37040" y="22122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15936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143160" y="22035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15936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143160" y="22161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1920" y="227160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01920" y="230328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95800" y="229536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99040" y="23065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99040" y="23065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06960" y="23144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99040" y="2322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99040" y="23223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6960" y="23302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99040" y="23367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99040" y="23367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6960" y="23446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99040" y="23526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99040" y="23526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06960" y="23605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9040" y="23684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9040" y="23684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06960" y="23763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99040" y="238428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9040" y="238428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6960" y="23907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99040" y="23986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99040" y="23986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6960" y="24066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99040" y="24145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99040" y="24145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6960" y="242244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9040" y="24289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9040" y="24289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960" y="24368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99040" y="244476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13080" y="245124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17760" y="227160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95800" y="228456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64120" y="216360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03720" y="216864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68800" y="220176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287880" y="220572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287880" y="221616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336840" y="220824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301920" y="220824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336840" y="221940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301920" y="221940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81360" y="221760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30"/>
            <a:stretch/>
          </p:blipFill>
          <p:spPr>
            <a:xfrm>
              <a:off x="2805120" y="338940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3500280" y="2093760"/>
            <a:ext cx="3168720" cy="1924560"/>
            <a:chOff x="3500280" y="2093760"/>
            <a:chExt cx="3168720" cy="1924560"/>
          </a:xfrm>
        </p:grpSpPr>
        <p:pic>
          <p:nvPicPr>
            <p:cNvPr id="324" name="" descr=""/>
            <p:cNvPicPr/>
            <p:nvPr/>
          </p:nvPicPr>
          <p:blipFill>
            <a:blip r:embed="rId31"/>
            <a:srcRect l="6229" t="0" r="6520" b="0"/>
            <a:stretch/>
          </p:blipFill>
          <p:spPr>
            <a:xfrm>
              <a:off x="3500280" y="209376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500280" y="364788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32"/>
            <a:stretch/>
          </p:blipFill>
          <p:spPr>
            <a:xfrm>
              <a:off x="4653000" y="334476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306680" y="209376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3360" y="252540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00360" y="337500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33"/>
            <a:stretch/>
          </p:blipFill>
          <p:spPr>
            <a:xfrm>
              <a:off x="3566880" y="342720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1" name=""/>
            <p:cNvGraphicFramePr/>
            <p:nvPr/>
          </p:nvGraphicFramePr>
          <p:xfrm>
            <a:off x="4992480" y="3497040"/>
            <a:ext cx="152640" cy="13500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4992480" y="349704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4810320" y="332100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7520" y="364320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60880" y="347472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36"/>
            <a:stretch/>
          </p:blipFill>
          <p:spPr>
            <a:xfrm>
              <a:off x="3573360" y="244296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7"/>
            <a:stretch/>
          </p:blipFill>
          <p:spPr>
            <a:xfrm>
              <a:off x="3659040" y="236520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38"/>
            <a:stretch/>
          </p:blipFill>
          <p:spPr>
            <a:xfrm>
              <a:off x="3744720" y="228744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9"/>
            <a:stretch/>
          </p:blipFill>
          <p:spPr>
            <a:xfrm>
              <a:off x="3835440" y="213012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flipV="1">
              <a:off x="6064200" y="225072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43680" y="217476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 rot="10800000">
              <a:off x="6158160" y="226692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 rot="10800000">
              <a:off x="6144120" y="218160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10800000">
              <a:off x="6243120" y="226872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30880" y="216216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078600" y="220248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078600" y="221364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10236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8472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10236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08472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167520" y="22024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167520" y="22136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191280" y="220500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7364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191280" y="221760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7364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160" y="220248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160" y="221364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7228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5464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27228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5464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4480" y="226980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1880" y="217152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338880" y="22024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38880" y="22136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36120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345000" y="22050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36120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345000" y="22176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03760" y="227304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3760" y="230472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7640" y="229680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00880" y="2307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00880" y="23079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08800" y="23158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00880" y="23238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00880" y="232380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233172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00880" y="23382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0880" y="23382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08800" y="23461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00880" y="23540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00880" y="23540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8800" y="23619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00880" y="23698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00880" y="23698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08800" y="23778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0880" y="238572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00880" y="23857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08800" y="23922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0880" y="24001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00880" y="24001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08800" y="24080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00880" y="2415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00880" y="24159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08800" y="24238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0880" y="2430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00880" y="24303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08800" y="24382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0880" y="244620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14920" y="245268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9600" y="227304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7640" y="228600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65960" y="216504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5560" y="217008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0640" y="220320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489720" y="220716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489720" y="221760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538680" y="220968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03760" y="220968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538680" y="222084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03760" y="222084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83200" y="221904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40"/>
            <a:stretch/>
          </p:blipFill>
          <p:spPr>
            <a:xfrm>
              <a:off x="6006960" y="339084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298440" y="4006800"/>
            <a:ext cx="3168720" cy="1924560"/>
            <a:chOff x="298440" y="4006800"/>
            <a:chExt cx="3168720" cy="1924560"/>
          </a:xfrm>
        </p:grpSpPr>
        <p:pic>
          <p:nvPicPr>
            <p:cNvPr id="418" name="" descr=""/>
            <p:cNvPicPr/>
            <p:nvPr/>
          </p:nvPicPr>
          <p:blipFill>
            <a:blip r:embed="rId41"/>
            <a:srcRect l="6229" t="0" r="6520" b="0"/>
            <a:stretch/>
          </p:blipFill>
          <p:spPr>
            <a:xfrm>
              <a:off x="298440" y="400680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98440" y="556092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42"/>
            <a:stretch/>
          </p:blipFill>
          <p:spPr>
            <a:xfrm>
              <a:off x="1451160" y="525780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104840" y="400680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520" y="443844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8520" y="528804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43"/>
            <a:stretch/>
          </p:blipFill>
          <p:spPr>
            <a:xfrm>
              <a:off x="365040" y="534024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25" name=""/>
            <p:cNvGraphicFramePr/>
            <p:nvPr/>
          </p:nvGraphicFramePr>
          <p:xfrm>
            <a:off x="1790640" y="5410080"/>
            <a:ext cx="152640" cy="1350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1790640" y="541008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"/>
            <p:cNvSpPr/>
            <p:nvPr/>
          </p:nvSpPr>
          <p:spPr>
            <a:xfrm>
              <a:off x="1608480" y="523404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5680" y="555624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9040" y="538776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46"/>
            <a:stretch/>
          </p:blipFill>
          <p:spPr>
            <a:xfrm>
              <a:off x="371520" y="435600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7"/>
            <a:stretch/>
          </p:blipFill>
          <p:spPr>
            <a:xfrm>
              <a:off x="457200" y="427824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48"/>
            <a:stretch/>
          </p:blipFill>
          <p:spPr>
            <a:xfrm>
              <a:off x="542880" y="420048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49"/>
            <a:stretch/>
          </p:blipFill>
          <p:spPr>
            <a:xfrm>
              <a:off x="633600" y="404316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 flipV="1">
              <a:off x="2862360" y="416376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841840" y="408780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 rot="10800000">
              <a:off x="2956320" y="417996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10800000">
              <a:off x="2942280" y="409464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10800000">
              <a:off x="3041280" y="418176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29040" y="407520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876760" y="411552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876760" y="412668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90052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8288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90052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88288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65680" y="411552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65680" y="412668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989440" y="411804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97180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989440" y="413064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97180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046320" y="411552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46320" y="412668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07044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05280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07044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05280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2640" y="418284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10040" y="408456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137040" y="411552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137040" y="412668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15936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143160" y="41180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15936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143160" y="41306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01920" y="418608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01920" y="421776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95800" y="420984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99040" y="42210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99040" y="42210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06960" y="42289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99040" y="42368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99040" y="423684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06960" y="424476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99040" y="42512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99040" y="42512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06960" y="42591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99040" y="42670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9040" y="42670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06960" y="42750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99040" y="42829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99040" y="42829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06960" y="42908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99040" y="429876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99040" y="42987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06960" y="43052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99040" y="43131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99040" y="43131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06960" y="43210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99040" y="43290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9040" y="432900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6960" y="433692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99040" y="43434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99040" y="43434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06960" y="43513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99040" y="435924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3080" y="436572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17760" y="418608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95800" y="419904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64120" y="407808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03720" y="408312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8800" y="411624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87880" y="412020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287880" y="413064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336840" y="412272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01920" y="412272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336840" y="413388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301920" y="413388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81360" y="413208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50"/>
            <a:stretch/>
          </p:blipFill>
          <p:spPr>
            <a:xfrm>
              <a:off x="2805120" y="530388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"/>
          <p:cNvGrpSpPr/>
          <p:nvPr/>
        </p:nvGrpSpPr>
        <p:grpSpPr>
          <a:xfrm>
            <a:off x="3500280" y="4008600"/>
            <a:ext cx="3168720" cy="1924560"/>
            <a:chOff x="3500280" y="4008600"/>
            <a:chExt cx="3168720" cy="1924560"/>
          </a:xfrm>
        </p:grpSpPr>
        <p:pic>
          <p:nvPicPr>
            <p:cNvPr id="512" name="" descr=""/>
            <p:cNvPicPr/>
            <p:nvPr/>
          </p:nvPicPr>
          <p:blipFill>
            <a:blip r:embed="rId51"/>
            <a:srcRect l="6229" t="0" r="6520" b="0"/>
            <a:stretch/>
          </p:blipFill>
          <p:spPr>
            <a:xfrm>
              <a:off x="3500280" y="400860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500280" y="556272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52"/>
            <a:stretch/>
          </p:blipFill>
          <p:spPr>
            <a:xfrm>
              <a:off x="4653000" y="525960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306680" y="400860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73360" y="444024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00360" y="528984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53"/>
            <a:stretch/>
          </p:blipFill>
          <p:spPr>
            <a:xfrm>
              <a:off x="3566880" y="534204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9" name=""/>
            <p:cNvGraphicFramePr/>
            <p:nvPr/>
          </p:nvGraphicFramePr>
          <p:xfrm>
            <a:off x="4992480" y="5411880"/>
            <a:ext cx="152640" cy="13500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4992480" y="541188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4810320" y="523584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57520" y="555804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60880" y="538956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56"/>
            <a:stretch/>
          </p:blipFill>
          <p:spPr>
            <a:xfrm>
              <a:off x="3573360" y="435780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57"/>
            <a:stretch/>
          </p:blipFill>
          <p:spPr>
            <a:xfrm>
              <a:off x="3659040" y="428004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58"/>
            <a:stretch/>
          </p:blipFill>
          <p:spPr>
            <a:xfrm>
              <a:off x="3744720" y="420228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59"/>
            <a:stretch/>
          </p:blipFill>
          <p:spPr>
            <a:xfrm>
              <a:off x="3835440" y="404496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 flipV="1">
              <a:off x="6064200" y="416556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043680" y="408960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 rot="10800000">
              <a:off x="6158160" y="418176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 rot="10800000">
              <a:off x="6144120" y="409644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 rot="10800000">
              <a:off x="6243120" y="418356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30880" y="407700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078600" y="411732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078600" y="412848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10236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608472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10236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08472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167520" y="411732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167520" y="412848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191280" y="411984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17364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191280" y="413244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617364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248160" y="411732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248160" y="412848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27228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25464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27228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25464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24480" y="418464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11880" y="408636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338880" y="411732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338880" y="412848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36120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345000" y="411984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36120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345000" y="413244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03760" y="418788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03760" y="421956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97640" y="421164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00880" y="42228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00880" y="42228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08800" y="42307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00880" y="42386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00880" y="423864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08800" y="424656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00880" y="42530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00880" y="42530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08800" y="42609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00880" y="42688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00880" y="42688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8800" y="42768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00880" y="42847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0880" y="42847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0880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00880" y="430056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00880" y="43005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08800" y="43070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00880" y="4314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00880" y="43149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08800" y="43228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00880" y="43308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00880" y="433080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08800" y="433872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00880" y="43452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00880" y="43452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08800" y="43531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00880" y="436104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4920" y="436752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19600" y="418788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97640" y="420084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65960" y="407988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05560" y="408492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70640" y="411804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489720" y="412200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489720" y="413244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538680" y="412452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503760" y="412452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538680" y="413568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03760" y="413568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83200" y="413388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60"/>
            <a:stretch/>
          </p:blipFill>
          <p:spPr>
            <a:xfrm>
              <a:off x="6006960" y="530568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298440" y="5923080"/>
            <a:ext cx="3168720" cy="1924560"/>
            <a:chOff x="298440" y="5923080"/>
            <a:chExt cx="3168720" cy="1924560"/>
          </a:xfrm>
        </p:grpSpPr>
        <p:pic>
          <p:nvPicPr>
            <p:cNvPr id="606" name="" descr=""/>
            <p:cNvPicPr/>
            <p:nvPr/>
          </p:nvPicPr>
          <p:blipFill>
            <a:blip r:embed="rId61"/>
            <a:srcRect l="6229" t="0" r="6520" b="0"/>
            <a:stretch/>
          </p:blipFill>
          <p:spPr>
            <a:xfrm>
              <a:off x="298440" y="592308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98440" y="747720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62"/>
            <a:stretch/>
          </p:blipFill>
          <p:spPr>
            <a:xfrm>
              <a:off x="1451160" y="717408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1104840" y="592308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1520" y="635472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8520" y="72043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63"/>
            <a:stretch/>
          </p:blipFill>
          <p:spPr>
            <a:xfrm>
              <a:off x="365040" y="725652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3" name=""/>
            <p:cNvGraphicFramePr/>
            <p:nvPr/>
          </p:nvGraphicFramePr>
          <p:xfrm>
            <a:off x="1790640" y="7326360"/>
            <a:ext cx="152640" cy="13500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1790640" y="732636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5" name=""/>
            <p:cNvSpPr/>
            <p:nvPr/>
          </p:nvSpPr>
          <p:spPr>
            <a:xfrm>
              <a:off x="1608480" y="715032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5680" y="747252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59040" y="730404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66"/>
            <a:stretch/>
          </p:blipFill>
          <p:spPr>
            <a:xfrm>
              <a:off x="371520" y="627228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67"/>
            <a:stretch/>
          </p:blipFill>
          <p:spPr>
            <a:xfrm>
              <a:off x="457200" y="619452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68"/>
            <a:stretch/>
          </p:blipFill>
          <p:spPr>
            <a:xfrm>
              <a:off x="542880" y="611676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69"/>
            <a:stretch/>
          </p:blipFill>
          <p:spPr>
            <a:xfrm>
              <a:off x="633600" y="595944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 flipV="1">
              <a:off x="2862360" y="608004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841840" y="600408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 rot="10800000">
              <a:off x="2956320" y="609624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 rot="10800000">
              <a:off x="2942280" y="601092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10800000">
              <a:off x="3041280" y="609804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29040" y="599148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876760" y="603180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876760" y="604296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90052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88288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90052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88288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965680" y="603180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965680" y="604296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989440" y="603432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97180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989440" y="604692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97180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046320" y="603180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046320" y="604296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07044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05280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7044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05280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2640" y="609912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10040" y="600084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137040" y="603180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137040" y="604296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315936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143160" y="603432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5936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143160" y="604692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01920" y="610236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01920" y="613404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95800" y="612612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99040" y="61372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99040" y="61372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06960" y="61452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99040" y="61531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99040" y="61531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06960" y="616104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99040" y="61675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99040" y="61675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06960" y="61754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99040" y="6183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9040" y="61833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06960" y="61912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99040" y="61992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99040" y="61992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06960" y="62071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99040" y="621504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99040" y="621504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06960" y="62215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99040" y="62294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99040" y="62294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06960" y="62373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99040" y="62452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99040" y="624528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06960" y="625320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99040" y="62596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9040" y="62596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06960" y="62676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99040" y="627552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3080" y="628200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7760" y="610236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95800" y="611532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64120" y="599436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03720" y="599940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68800" y="603252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87880" y="603648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3287880" y="604692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336840" y="603900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301920" y="603900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336840" y="605016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301920" y="605016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81360" y="604836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70"/>
            <a:stretch/>
          </p:blipFill>
          <p:spPr>
            <a:xfrm>
              <a:off x="2805120" y="722016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9" name=""/>
          <p:cNvGrpSpPr/>
          <p:nvPr/>
        </p:nvGrpSpPr>
        <p:grpSpPr>
          <a:xfrm>
            <a:off x="3500280" y="5924520"/>
            <a:ext cx="3168720" cy="1924560"/>
            <a:chOff x="3500280" y="5924520"/>
            <a:chExt cx="3168720" cy="1924560"/>
          </a:xfrm>
        </p:grpSpPr>
        <p:pic>
          <p:nvPicPr>
            <p:cNvPr id="700" name="" descr=""/>
            <p:cNvPicPr/>
            <p:nvPr/>
          </p:nvPicPr>
          <p:blipFill>
            <a:blip r:embed="rId71"/>
            <a:srcRect l="6229" t="0" r="6520" b="0"/>
            <a:stretch/>
          </p:blipFill>
          <p:spPr>
            <a:xfrm>
              <a:off x="3500280" y="592452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500280" y="747864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72"/>
            <a:stretch/>
          </p:blipFill>
          <p:spPr>
            <a:xfrm>
              <a:off x="4653000" y="717552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306680" y="592452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73360" y="635616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00360" y="720576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73"/>
            <a:stretch/>
          </p:blipFill>
          <p:spPr>
            <a:xfrm>
              <a:off x="3566880" y="725796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07" name=""/>
            <p:cNvGraphicFramePr/>
            <p:nvPr/>
          </p:nvGraphicFramePr>
          <p:xfrm>
            <a:off x="4992480" y="7327800"/>
            <a:ext cx="152640" cy="135000"/>
          </p:xfrm>
          <a:graphic>
            <a:graphicData uri="http://schemas.openxmlformats.org/presentationml/2006/ole">
              <p:oleObj r:id="rId74" spid="">
                <p:embed/>
                <p:pic>
                  <p:nvPicPr>
                    <p:cNvPr id="708" name="" descr=""/>
                    <p:cNvPicPr/>
                    <p:nvPr/>
                  </p:nvPicPr>
                  <p:blipFill>
                    <a:blip r:embed="rId75"/>
                    <a:stretch/>
                  </p:blipFill>
                  <p:spPr>
                    <a:xfrm>
                      <a:off x="4992480" y="732780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9" name=""/>
            <p:cNvSpPr/>
            <p:nvPr/>
          </p:nvSpPr>
          <p:spPr>
            <a:xfrm>
              <a:off x="4810320" y="715176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7520" y="747396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880" y="730548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76"/>
            <a:stretch/>
          </p:blipFill>
          <p:spPr>
            <a:xfrm>
              <a:off x="3573360" y="627372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77"/>
            <a:stretch/>
          </p:blipFill>
          <p:spPr>
            <a:xfrm>
              <a:off x="3659040" y="619596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78"/>
            <a:stretch/>
          </p:blipFill>
          <p:spPr>
            <a:xfrm>
              <a:off x="3744720" y="611820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79"/>
            <a:stretch/>
          </p:blipFill>
          <p:spPr>
            <a:xfrm>
              <a:off x="3835440" y="596088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 flipV="1">
              <a:off x="6064200" y="608148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043680" y="600552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 rot="10800000">
              <a:off x="6158160" y="609768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 rot="10800000">
              <a:off x="6144120" y="601236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10800000">
              <a:off x="6243120" y="609948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30880" y="599292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078600" y="603324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6078600" y="604440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0236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08472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10236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08472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167520" y="60332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167520" y="60444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191280" y="603576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17364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191280" y="604836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617364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248160" y="603324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248160" y="604440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27228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25464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627228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25464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24480" y="610056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11880" y="600228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338880" y="60332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338880" y="60444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36120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345000" y="60357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636120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345000" y="60483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03760" y="610380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03760" y="613548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97640" y="612756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00880" y="61387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00880" y="61387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08800" y="61466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00880" y="61545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00880" y="61545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8800" y="61624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00880" y="61689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00880" y="61689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08800" y="61768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00880" y="61848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00880" y="61848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08800" y="61927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00880" y="62006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0880" y="62006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08800" y="62085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00880" y="621648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0880" y="621648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08800" y="62229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0880" y="62308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00880" y="62308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8800" y="62388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00880" y="62467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880" y="62467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08800" y="625464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00880" y="62611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00880" y="62611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08800" y="62690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00880" y="627696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14920" y="628344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19600" y="610380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97640" y="611676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65960" y="599580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05560" y="600084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70640" y="603396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6489720" y="603792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489720" y="604836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538680" y="604044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6503760" y="604044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538680" y="605160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503760" y="605160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83200" y="604980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" descr=""/>
            <p:cNvPicPr/>
            <p:nvPr/>
          </p:nvPicPr>
          <p:blipFill>
            <a:blip r:embed="rId80"/>
            <a:stretch/>
          </p:blipFill>
          <p:spPr>
            <a:xfrm>
              <a:off x="6006960" y="722160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"/>
          <p:cNvGrpSpPr/>
          <p:nvPr/>
        </p:nvGrpSpPr>
        <p:grpSpPr>
          <a:xfrm>
            <a:off x="298440" y="7848720"/>
            <a:ext cx="3168720" cy="1924560"/>
            <a:chOff x="298440" y="7848720"/>
            <a:chExt cx="3168720" cy="1924560"/>
          </a:xfrm>
        </p:grpSpPr>
        <p:pic>
          <p:nvPicPr>
            <p:cNvPr id="794" name="" descr=""/>
            <p:cNvPicPr/>
            <p:nvPr/>
          </p:nvPicPr>
          <p:blipFill>
            <a:blip r:embed="rId81"/>
            <a:srcRect l="6229" t="0" r="6520" b="0"/>
            <a:stretch/>
          </p:blipFill>
          <p:spPr>
            <a:xfrm>
              <a:off x="298440" y="784872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98440" y="940284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82"/>
            <a:stretch/>
          </p:blipFill>
          <p:spPr>
            <a:xfrm>
              <a:off x="1451160" y="909972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1104840" y="784872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1520" y="828036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8520" y="912996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0" name="" descr=""/>
            <p:cNvPicPr/>
            <p:nvPr/>
          </p:nvPicPr>
          <p:blipFill>
            <a:blip r:embed="rId83"/>
            <a:stretch/>
          </p:blipFill>
          <p:spPr>
            <a:xfrm>
              <a:off x="365040" y="918216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01" name=""/>
            <p:cNvGraphicFramePr/>
            <p:nvPr/>
          </p:nvGraphicFramePr>
          <p:xfrm>
            <a:off x="1790640" y="9252000"/>
            <a:ext cx="152640" cy="135000"/>
          </p:xfrm>
          <a:graphic>
            <a:graphicData uri="http://schemas.openxmlformats.org/presentationml/2006/ole">
              <p:oleObj r:id="rId84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85"/>
                    <a:stretch/>
                  </p:blipFill>
                  <p:spPr>
                    <a:xfrm>
                      <a:off x="1790640" y="925200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3" name=""/>
            <p:cNvSpPr/>
            <p:nvPr/>
          </p:nvSpPr>
          <p:spPr>
            <a:xfrm>
              <a:off x="1608480" y="907596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5680" y="939816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59040" y="922968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6" name="" descr=""/>
            <p:cNvPicPr/>
            <p:nvPr/>
          </p:nvPicPr>
          <p:blipFill>
            <a:blip r:embed="rId86"/>
            <a:stretch/>
          </p:blipFill>
          <p:spPr>
            <a:xfrm>
              <a:off x="371520" y="819792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87"/>
            <a:stretch/>
          </p:blipFill>
          <p:spPr>
            <a:xfrm>
              <a:off x="457200" y="812016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88"/>
            <a:stretch/>
          </p:blipFill>
          <p:spPr>
            <a:xfrm>
              <a:off x="542880" y="804240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89"/>
            <a:stretch/>
          </p:blipFill>
          <p:spPr>
            <a:xfrm>
              <a:off x="633600" y="788508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 flipV="1">
              <a:off x="2862360" y="800568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841840" y="792972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 rot="10800000">
              <a:off x="2956320" y="802188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 rot="10800000">
              <a:off x="2942280" y="793656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 rot="10800000">
              <a:off x="3041280" y="802368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29040" y="791712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876760" y="795744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2876760" y="796860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90052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88288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90052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88288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965680" y="79574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965680" y="79686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989440" y="795996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97180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989440" y="797256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97180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046320" y="795744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046320" y="796860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07044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305280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307044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05280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22640" y="802476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10040" y="792648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3137040" y="795744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137040" y="796860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315936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143160" y="795996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315936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3143160" y="797256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01920" y="802800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01920" y="805968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95800" y="805176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99040" y="80629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99040" y="80629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06960" y="80708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9040" y="80787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99040" y="80787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06960" y="80866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99040" y="80931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299040" y="80931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06960" y="81010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99040" y="81090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9040" y="81090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06960" y="81169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99040" y="81248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299040" y="81248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06960" y="81327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299040" y="814068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99040" y="814068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06960" y="81471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9040" y="81550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99040" y="81550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06960" y="81630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99040" y="81709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99040" y="81709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06960" y="817884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99040" y="81853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99040" y="81853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06960" y="81932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99040" y="820116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13080" y="820764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17760" y="802800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95800" y="804096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4120" y="792000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03720" y="792504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68800" y="795816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3287880" y="796212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287880" y="797256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336840" y="796464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301920" y="796464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336840" y="797580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301920" y="797580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81360" y="797400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" descr=""/>
            <p:cNvPicPr/>
            <p:nvPr/>
          </p:nvPicPr>
          <p:blipFill>
            <a:blip r:embed="rId90"/>
            <a:stretch/>
          </p:blipFill>
          <p:spPr>
            <a:xfrm>
              <a:off x="2805120" y="914580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7" name=""/>
          <p:cNvGrpSpPr/>
          <p:nvPr/>
        </p:nvGrpSpPr>
        <p:grpSpPr>
          <a:xfrm>
            <a:off x="3500280" y="7850160"/>
            <a:ext cx="3168720" cy="1924560"/>
            <a:chOff x="3500280" y="7850160"/>
            <a:chExt cx="3168720" cy="1924560"/>
          </a:xfrm>
        </p:grpSpPr>
        <p:pic>
          <p:nvPicPr>
            <p:cNvPr id="888" name="" descr=""/>
            <p:cNvPicPr/>
            <p:nvPr/>
          </p:nvPicPr>
          <p:blipFill>
            <a:blip r:embed="rId91"/>
            <a:srcRect l="6229" t="0" r="6520" b="0"/>
            <a:stretch/>
          </p:blipFill>
          <p:spPr>
            <a:xfrm>
              <a:off x="3500280" y="7850160"/>
              <a:ext cx="316872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3500280" y="9404280"/>
              <a:ext cx="316872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ARCO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Av. Governador Valadares, 133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35588.000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51.3290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55.9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PAINS</a:t>
              </a:r>
              <a:r>
                <a:rPr b="1" lang="en-US" sz="5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R. Padre Francisco Goulart, 383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ntro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CEP: 35582.000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pt-BR" sz="700" spc="-1" strike="noStrike">
                  <a:solidFill>
                    <a:srgbClr val="0000ff"/>
                  </a:solidFill>
                  <a:latin typeface="Arial"/>
                </a:rPr>
                <a:t>3323.1024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:: </a:t>
              </a:r>
              <a:r>
                <a:rPr b="1" lang="pt-BR" sz="5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lang="pt-BR" sz="600" spc="-1" strike="noStrike">
                  <a:solidFill>
                    <a:srgbClr val="0000ff"/>
                  </a:solidFill>
                  <a:latin typeface="Arial"/>
                </a:rPr>
                <a:t>.9965.74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0" name="" descr=""/>
            <p:cNvPicPr/>
            <p:nvPr/>
          </p:nvPicPr>
          <p:blipFill>
            <a:blip r:embed="rId92"/>
            <a:stretch/>
          </p:blipFill>
          <p:spPr>
            <a:xfrm>
              <a:off x="4653000" y="9101160"/>
              <a:ext cx="22860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306680" y="7850160"/>
              <a:ext cx="1724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mic Sans MS"/>
                </a:rPr>
                <a:t>Dr. Ivan And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CROMG</a:t>
              </a: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::</a:t>
              </a:r>
              <a:r>
                <a:rPr b="1" lang="pt-BR" sz="900" spc="-1" strike="noStrike">
                  <a:solidFill>
                    <a:srgbClr val="000000"/>
                  </a:solidFill>
                  <a:latin typeface="Comic Sans MS"/>
                </a:rPr>
                <a:t>26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73360" y="8281800"/>
              <a:ext cx="30481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Doutorando em Implantodontia :: Campinas 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Mestrando em Ortodontia e Ortopedia ::: Arar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Mestr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e  e  Especialista 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em  Periodontia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Campinas::S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Cirurgias Orais Avançada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Ortodontia e Ortopedia Facial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Pós-Graduado em Reabilitação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pt-BR" sz="600" spc="-1" strike="noStrike">
                  <a:solidFill>
                    <a:srgbClr val="0000ff"/>
                  </a:solidFill>
                  <a:latin typeface="Comic Sans MS"/>
                </a:rPr>
                <a:t>Oral Utilizando Implantes</a:t>
              </a:r>
              <a:r>
                <a:rPr b="1" lang="en-US" sz="600" spc="-1" strike="noStrike">
                  <a:solidFill>
                    <a:srgbClr val="0000ff"/>
                  </a:solidFill>
                  <a:latin typeface="Comic Sans MS"/>
                </a:rPr>
                <a:t> ::: Belo Horizonte::M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00360" y="913140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0000ff"/>
                  </a:solidFill>
                  <a:latin typeface="Arial"/>
                </a:rPr>
                <a:t>37</a:t>
              </a:r>
              <a:r>
                <a:rPr b="1" i="1" lang="pt-BR" sz="1200" spc="-1" strike="noStrike">
                  <a:solidFill>
                    <a:srgbClr val="0000ff"/>
                  </a:solidFill>
                  <a:latin typeface="Arial"/>
                </a:rPr>
                <a:t>.9918.</a:t>
              </a:r>
              <a:r>
                <a:rPr b="1" i="1" lang="en-US" sz="1200" spc="-1" strike="noStrike">
                  <a:solidFill>
                    <a:srgbClr val="0000ff"/>
                  </a:solidFill>
                  <a:latin typeface="Arial"/>
                </a:rPr>
                <a:t>38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4" name="" descr=""/>
            <p:cNvPicPr/>
            <p:nvPr/>
          </p:nvPicPr>
          <p:blipFill>
            <a:blip r:embed="rId93"/>
            <a:stretch/>
          </p:blipFill>
          <p:spPr>
            <a:xfrm>
              <a:off x="3566880" y="9183600"/>
              <a:ext cx="106560" cy="15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95" name=""/>
            <p:cNvGraphicFramePr/>
            <p:nvPr/>
          </p:nvGraphicFramePr>
          <p:xfrm>
            <a:off x="4992480" y="9253440"/>
            <a:ext cx="152640" cy="135000"/>
          </p:xfrm>
          <a:graphic>
            <a:graphicData uri="http://schemas.openxmlformats.org/presentationml/2006/ole">
              <p:oleObj r:id="rId94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95"/>
                    <a:stretch/>
                  </p:blipFill>
                  <p:spPr>
                    <a:xfrm>
                      <a:off x="4992480" y="9253440"/>
                      <a:ext cx="15264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4810320" y="9077400"/>
              <a:ext cx="1060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700" spc="-1" strike="noStrike">
                  <a:solidFill>
                    <a:srgbClr val="000000"/>
                  </a:solidFill>
                  <a:latin typeface="Arial"/>
                </a:rPr>
                <a:t>ivan@smileprev.c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57520" y="9399600"/>
              <a:ext cx="2531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60880" y="9231120"/>
              <a:ext cx="1054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000000"/>
                  </a:solidFill>
                  <a:latin typeface="Arial"/>
                </a:rPr>
                <a:t>www.doutorivan.com.b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0" name="" descr=""/>
            <p:cNvPicPr/>
            <p:nvPr/>
          </p:nvPicPr>
          <p:blipFill>
            <a:blip r:embed="rId96"/>
            <a:stretch/>
          </p:blipFill>
          <p:spPr>
            <a:xfrm>
              <a:off x="3573360" y="8199360"/>
              <a:ext cx="227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97"/>
            <a:stretch/>
          </p:blipFill>
          <p:spPr>
            <a:xfrm>
              <a:off x="3659040" y="8121600"/>
              <a:ext cx="30312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98"/>
            <a:stretch/>
          </p:blipFill>
          <p:spPr>
            <a:xfrm>
              <a:off x="3744720" y="8043840"/>
              <a:ext cx="37800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99"/>
            <a:stretch/>
          </p:blipFill>
          <p:spPr>
            <a:xfrm>
              <a:off x="3835440" y="7886520"/>
              <a:ext cx="5299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 flipV="1">
              <a:off x="6064200" y="8007120"/>
              <a:ext cx="73080" cy="216000"/>
            </a:xfrm>
            <a:custGeom>
              <a:avLst/>
              <a:gdLst/>
              <a:ahLst/>
              <a:rect l="l" t="t" r="r" b="b"/>
              <a:pathLst>
                <a:path w="445" h="1431">
                  <a:moveTo>
                    <a:pt x="0" y="1286"/>
                  </a:moveTo>
                  <a:cubicBezTo>
                    <a:pt x="16" y="1158"/>
                    <a:pt x="69" y="719"/>
                    <a:pt x="97" y="516"/>
                  </a:cubicBezTo>
                  <a:cubicBezTo>
                    <a:pt x="125" y="314"/>
                    <a:pt x="132" y="146"/>
                    <a:pt x="167" y="73"/>
                  </a:cubicBezTo>
                  <a:cubicBezTo>
                    <a:pt x="202" y="0"/>
                    <a:pt x="281" y="45"/>
                    <a:pt x="309" y="79"/>
                  </a:cubicBezTo>
                  <a:cubicBezTo>
                    <a:pt x="337" y="113"/>
                    <a:pt x="324" y="208"/>
                    <a:pt x="333" y="279"/>
                  </a:cubicBezTo>
                  <a:cubicBezTo>
                    <a:pt x="342" y="350"/>
                    <a:pt x="354" y="430"/>
                    <a:pt x="365" y="503"/>
                  </a:cubicBezTo>
                  <a:cubicBezTo>
                    <a:pt x="376" y="576"/>
                    <a:pt x="388" y="636"/>
                    <a:pt x="397" y="715"/>
                  </a:cubicBezTo>
                  <a:cubicBezTo>
                    <a:pt x="406" y="794"/>
                    <a:pt x="413" y="909"/>
                    <a:pt x="417" y="975"/>
                  </a:cubicBezTo>
                  <a:cubicBezTo>
                    <a:pt x="421" y="1041"/>
                    <a:pt x="416" y="1035"/>
                    <a:pt x="421" y="1111"/>
                  </a:cubicBezTo>
                  <a:cubicBezTo>
                    <a:pt x="426" y="1187"/>
                    <a:pt x="440" y="1364"/>
                    <a:pt x="445" y="1431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43680" y="7931160"/>
              <a:ext cx="114120" cy="115920"/>
            </a:xfrm>
            <a:custGeom>
              <a:avLst/>
              <a:gdLst/>
              <a:ahLst/>
              <a:rect l="l" t="t" r="r" b="b"/>
              <a:pathLst>
                <a:path w="707" h="772">
                  <a:moveTo>
                    <a:pt x="125" y="127"/>
                  </a:moveTo>
                  <a:cubicBezTo>
                    <a:pt x="120" y="154"/>
                    <a:pt x="114" y="198"/>
                    <a:pt x="97" y="286"/>
                  </a:cubicBezTo>
                  <a:cubicBezTo>
                    <a:pt x="80" y="374"/>
                    <a:pt x="0" y="577"/>
                    <a:pt x="25" y="655"/>
                  </a:cubicBezTo>
                  <a:cubicBezTo>
                    <a:pt x="50" y="733"/>
                    <a:pt x="146" y="749"/>
                    <a:pt x="250" y="757"/>
                  </a:cubicBezTo>
                  <a:cubicBezTo>
                    <a:pt x="354" y="765"/>
                    <a:pt x="591" y="772"/>
                    <a:pt x="649" y="703"/>
                  </a:cubicBezTo>
                  <a:cubicBezTo>
                    <a:pt x="707" y="634"/>
                    <a:pt x="618" y="432"/>
                    <a:pt x="601" y="343"/>
                  </a:cubicBezTo>
                  <a:cubicBezTo>
                    <a:pt x="584" y="254"/>
                    <a:pt x="566" y="210"/>
                    <a:pt x="549" y="167"/>
                  </a:cubicBezTo>
                  <a:cubicBezTo>
                    <a:pt x="532" y="124"/>
                    <a:pt x="511" y="106"/>
                    <a:pt x="497" y="87"/>
                  </a:cubicBezTo>
                  <a:cubicBezTo>
                    <a:pt x="483" y="68"/>
                    <a:pt x="476" y="61"/>
                    <a:pt x="465" y="51"/>
                  </a:cubicBezTo>
                  <a:cubicBezTo>
                    <a:pt x="454" y="41"/>
                    <a:pt x="448" y="35"/>
                    <a:pt x="433" y="27"/>
                  </a:cubicBezTo>
                  <a:cubicBezTo>
                    <a:pt x="418" y="19"/>
                    <a:pt x="399" y="6"/>
                    <a:pt x="373" y="3"/>
                  </a:cubicBezTo>
                  <a:cubicBezTo>
                    <a:pt x="347" y="0"/>
                    <a:pt x="306" y="6"/>
                    <a:pt x="278" y="11"/>
                  </a:cubicBezTo>
                  <a:cubicBezTo>
                    <a:pt x="250" y="16"/>
                    <a:pt x="225" y="19"/>
                    <a:pt x="204" y="31"/>
                  </a:cubicBezTo>
                  <a:cubicBezTo>
                    <a:pt x="183" y="43"/>
                    <a:pt x="160" y="72"/>
                    <a:pt x="149" y="8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c1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 rot="10800000">
              <a:off x="6158160" y="8023320"/>
              <a:ext cx="55800" cy="20304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 rot="10800000">
              <a:off x="6144120" y="7938000"/>
              <a:ext cx="88920" cy="114120"/>
            </a:xfrm>
            <a:custGeom>
              <a:avLst/>
              <a:gdLst/>
              <a:ahLst/>
              <a:rect l="l" t="t" r="r" b="b"/>
              <a:pathLst>
                <a:path w="1688" h="1382">
                  <a:moveTo>
                    <a:pt x="276" y="1260"/>
                  </a:moveTo>
                  <a:cubicBezTo>
                    <a:pt x="257" y="1195"/>
                    <a:pt x="195" y="1051"/>
                    <a:pt x="162" y="876"/>
                  </a:cubicBezTo>
                  <a:cubicBezTo>
                    <a:pt x="129" y="701"/>
                    <a:pt x="0" y="351"/>
                    <a:pt x="79" y="207"/>
                  </a:cubicBezTo>
                  <a:cubicBezTo>
                    <a:pt x="158" y="63"/>
                    <a:pt x="390" y="24"/>
                    <a:pt x="636" y="12"/>
                  </a:cubicBezTo>
                  <a:cubicBezTo>
                    <a:pt x="882" y="0"/>
                    <a:pt x="1424" y="9"/>
                    <a:pt x="1556" y="133"/>
                  </a:cubicBezTo>
                  <a:cubicBezTo>
                    <a:pt x="1688" y="257"/>
                    <a:pt x="1460" y="601"/>
                    <a:pt x="1426" y="755"/>
                  </a:cubicBezTo>
                  <a:cubicBezTo>
                    <a:pt x="1392" y="909"/>
                    <a:pt x="1371" y="985"/>
                    <a:pt x="1350" y="1056"/>
                  </a:cubicBezTo>
                  <a:cubicBezTo>
                    <a:pt x="1329" y="1127"/>
                    <a:pt x="1327" y="1145"/>
                    <a:pt x="1302" y="1182"/>
                  </a:cubicBezTo>
                  <a:cubicBezTo>
                    <a:pt x="1277" y="1219"/>
                    <a:pt x="1230" y="1256"/>
                    <a:pt x="1200" y="1278"/>
                  </a:cubicBezTo>
                  <a:cubicBezTo>
                    <a:pt x="1170" y="1300"/>
                    <a:pt x="1160" y="1301"/>
                    <a:pt x="1122" y="1314"/>
                  </a:cubicBezTo>
                  <a:cubicBezTo>
                    <a:pt x="1084" y="1327"/>
                    <a:pt x="1038" y="1345"/>
                    <a:pt x="972" y="1356"/>
                  </a:cubicBezTo>
                  <a:cubicBezTo>
                    <a:pt x="906" y="1367"/>
                    <a:pt x="805" y="1382"/>
                    <a:pt x="726" y="1380"/>
                  </a:cubicBezTo>
                  <a:cubicBezTo>
                    <a:pt x="647" y="1378"/>
                    <a:pt x="572" y="1363"/>
                    <a:pt x="498" y="1344"/>
                  </a:cubicBezTo>
                  <a:cubicBezTo>
                    <a:pt x="424" y="1325"/>
                    <a:pt x="327" y="1282"/>
                    <a:pt x="282" y="1266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 rot="10800000">
              <a:off x="6243120" y="8025120"/>
              <a:ext cx="66600" cy="220680"/>
            </a:xfrm>
            <a:custGeom>
              <a:avLst/>
              <a:gdLst/>
              <a:ahLst/>
              <a:rect l="l" t="t" r="r" b="b"/>
              <a:pathLst>
                <a:path w="408" h="1463">
                  <a:moveTo>
                    <a:pt x="65" y="10"/>
                  </a:moveTo>
                  <a:cubicBezTo>
                    <a:pt x="69" y="160"/>
                    <a:pt x="97" y="674"/>
                    <a:pt x="90" y="909"/>
                  </a:cubicBezTo>
                  <a:cubicBezTo>
                    <a:pt x="83" y="1144"/>
                    <a:pt x="0" y="1375"/>
                    <a:pt x="24" y="1419"/>
                  </a:cubicBezTo>
                  <a:cubicBezTo>
                    <a:pt x="48" y="1463"/>
                    <a:pt x="189" y="1243"/>
                    <a:pt x="233" y="1174"/>
                  </a:cubicBezTo>
                  <a:cubicBezTo>
                    <a:pt x="277" y="1105"/>
                    <a:pt x="271" y="1060"/>
                    <a:pt x="287" y="1006"/>
                  </a:cubicBezTo>
                  <a:cubicBezTo>
                    <a:pt x="303" y="952"/>
                    <a:pt x="318" y="911"/>
                    <a:pt x="329" y="850"/>
                  </a:cubicBezTo>
                  <a:cubicBezTo>
                    <a:pt x="340" y="789"/>
                    <a:pt x="346" y="713"/>
                    <a:pt x="353" y="640"/>
                  </a:cubicBezTo>
                  <a:cubicBezTo>
                    <a:pt x="360" y="567"/>
                    <a:pt x="363" y="486"/>
                    <a:pt x="371" y="412"/>
                  </a:cubicBezTo>
                  <a:cubicBezTo>
                    <a:pt x="379" y="338"/>
                    <a:pt x="396" y="267"/>
                    <a:pt x="402" y="198"/>
                  </a:cubicBezTo>
                  <a:cubicBezTo>
                    <a:pt x="408" y="129"/>
                    <a:pt x="405" y="41"/>
                    <a:pt x="406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30880" y="7918560"/>
              <a:ext cx="84240" cy="134640"/>
            </a:xfrm>
            <a:custGeom>
              <a:avLst/>
              <a:gdLst/>
              <a:ahLst/>
              <a:rect l="l" t="t" r="r" b="b"/>
              <a:pathLst>
                <a:path w="637" h="1012">
                  <a:moveTo>
                    <a:pt x="95" y="936"/>
                  </a:moveTo>
                  <a:cubicBezTo>
                    <a:pt x="88" y="896"/>
                    <a:pt x="63" y="807"/>
                    <a:pt x="50" y="699"/>
                  </a:cubicBezTo>
                  <a:cubicBezTo>
                    <a:pt x="38" y="590"/>
                    <a:pt x="0" y="387"/>
                    <a:pt x="17" y="286"/>
                  </a:cubicBezTo>
                  <a:cubicBezTo>
                    <a:pt x="34" y="185"/>
                    <a:pt x="102" y="142"/>
                    <a:pt x="150" y="95"/>
                  </a:cubicBezTo>
                  <a:cubicBezTo>
                    <a:pt x="198" y="48"/>
                    <a:pt x="262" y="6"/>
                    <a:pt x="306" y="3"/>
                  </a:cubicBezTo>
                  <a:cubicBezTo>
                    <a:pt x="350" y="0"/>
                    <a:pt x="364" y="40"/>
                    <a:pt x="415" y="76"/>
                  </a:cubicBezTo>
                  <a:cubicBezTo>
                    <a:pt x="466" y="112"/>
                    <a:pt x="593" y="127"/>
                    <a:pt x="615" y="218"/>
                  </a:cubicBezTo>
                  <a:cubicBezTo>
                    <a:pt x="637" y="309"/>
                    <a:pt x="564" y="526"/>
                    <a:pt x="548" y="624"/>
                  </a:cubicBezTo>
                  <a:cubicBezTo>
                    <a:pt x="532" y="723"/>
                    <a:pt x="526" y="766"/>
                    <a:pt x="518" y="810"/>
                  </a:cubicBezTo>
                  <a:cubicBezTo>
                    <a:pt x="509" y="855"/>
                    <a:pt x="509" y="866"/>
                    <a:pt x="499" y="888"/>
                  </a:cubicBezTo>
                  <a:cubicBezTo>
                    <a:pt x="490" y="911"/>
                    <a:pt x="470" y="934"/>
                    <a:pt x="458" y="947"/>
                  </a:cubicBezTo>
                  <a:cubicBezTo>
                    <a:pt x="446" y="961"/>
                    <a:pt x="442" y="962"/>
                    <a:pt x="428" y="970"/>
                  </a:cubicBezTo>
                  <a:cubicBezTo>
                    <a:pt x="412" y="978"/>
                    <a:pt x="395" y="989"/>
                    <a:pt x="368" y="996"/>
                  </a:cubicBezTo>
                  <a:cubicBezTo>
                    <a:pt x="342" y="1003"/>
                    <a:pt x="302" y="1012"/>
                    <a:pt x="271" y="1011"/>
                  </a:cubicBezTo>
                  <a:cubicBezTo>
                    <a:pt x="241" y="1010"/>
                    <a:pt x="210" y="1001"/>
                    <a:pt x="181" y="988"/>
                  </a:cubicBezTo>
                  <a:cubicBezTo>
                    <a:pt x="153" y="977"/>
                    <a:pt x="114" y="950"/>
                    <a:pt x="97" y="941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6078600" y="7958880"/>
              <a:ext cx="3780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6078600" y="7970040"/>
              <a:ext cx="3780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10236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608472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610236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08472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167520" y="79588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6167520" y="79700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6191280" y="7961400"/>
              <a:ext cx="61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17364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191280" y="7974000"/>
              <a:ext cx="61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17364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248160" y="7958880"/>
              <a:ext cx="3672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6248160" y="7970040"/>
              <a:ext cx="3672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27228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625464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627228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625464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24480" y="8026200"/>
              <a:ext cx="60480" cy="227160"/>
            </a:xfrm>
            <a:custGeom>
              <a:avLst/>
              <a:gdLst/>
              <a:ahLst/>
              <a:rect l="l" t="t" r="r" b="b"/>
              <a:pathLst>
                <a:path w="1074" h="2485">
                  <a:moveTo>
                    <a:pt x="0" y="168"/>
                  </a:moveTo>
                  <a:cubicBezTo>
                    <a:pt x="49" y="403"/>
                    <a:pt x="214" y="1209"/>
                    <a:pt x="301" y="1580"/>
                  </a:cubicBezTo>
                  <a:cubicBezTo>
                    <a:pt x="388" y="1951"/>
                    <a:pt x="448" y="2302"/>
                    <a:pt x="519" y="2394"/>
                  </a:cubicBezTo>
                  <a:cubicBezTo>
                    <a:pt x="589" y="2485"/>
                    <a:pt x="678" y="2225"/>
                    <a:pt x="726" y="2126"/>
                  </a:cubicBezTo>
                  <a:cubicBezTo>
                    <a:pt x="773" y="2027"/>
                    <a:pt x="774" y="1914"/>
                    <a:pt x="804" y="1799"/>
                  </a:cubicBezTo>
                  <a:cubicBezTo>
                    <a:pt x="835" y="1684"/>
                    <a:pt x="883" y="1570"/>
                    <a:pt x="910" y="1438"/>
                  </a:cubicBezTo>
                  <a:cubicBezTo>
                    <a:pt x="937" y="1306"/>
                    <a:pt x="952" y="1139"/>
                    <a:pt x="967" y="1005"/>
                  </a:cubicBezTo>
                  <a:cubicBezTo>
                    <a:pt x="983" y="870"/>
                    <a:pt x="987" y="794"/>
                    <a:pt x="1005" y="627"/>
                  </a:cubicBezTo>
                  <a:cubicBezTo>
                    <a:pt x="1023" y="460"/>
                    <a:pt x="1060" y="131"/>
                    <a:pt x="1074" y="0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4242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1880" y="7927920"/>
              <a:ext cx="87120" cy="131760"/>
            </a:xfrm>
            <a:custGeom>
              <a:avLst/>
              <a:gdLst/>
              <a:ahLst/>
              <a:rect l="l" t="t" r="r" b="b"/>
              <a:pathLst>
                <a:path w="657" h="1072">
                  <a:moveTo>
                    <a:pt x="95" y="988"/>
                  </a:moveTo>
                  <a:cubicBezTo>
                    <a:pt x="87" y="943"/>
                    <a:pt x="60" y="844"/>
                    <a:pt x="46" y="724"/>
                  </a:cubicBezTo>
                  <a:cubicBezTo>
                    <a:pt x="31" y="603"/>
                    <a:pt x="0" y="370"/>
                    <a:pt x="10" y="263"/>
                  </a:cubicBezTo>
                  <a:cubicBezTo>
                    <a:pt x="20" y="156"/>
                    <a:pt x="76" y="124"/>
                    <a:pt x="104" y="82"/>
                  </a:cubicBezTo>
                  <a:cubicBezTo>
                    <a:pt x="132" y="40"/>
                    <a:pt x="153" y="18"/>
                    <a:pt x="177" y="9"/>
                  </a:cubicBezTo>
                  <a:cubicBezTo>
                    <a:pt x="201" y="0"/>
                    <a:pt x="223" y="23"/>
                    <a:pt x="250" y="28"/>
                  </a:cubicBezTo>
                  <a:cubicBezTo>
                    <a:pt x="277" y="33"/>
                    <a:pt x="298" y="33"/>
                    <a:pt x="342" y="37"/>
                  </a:cubicBezTo>
                  <a:cubicBezTo>
                    <a:pt x="386" y="41"/>
                    <a:pt x="464" y="26"/>
                    <a:pt x="515" y="55"/>
                  </a:cubicBezTo>
                  <a:cubicBezTo>
                    <a:pt x="566" y="84"/>
                    <a:pt x="633" y="115"/>
                    <a:pt x="645" y="213"/>
                  </a:cubicBezTo>
                  <a:cubicBezTo>
                    <a:pt x="657" y="311"/>
                    <a:pt x="604" y="535"/>
                    <a:pt x="589" y="641"/>
                  </a:cubicBezTo>
                  <a:cubicBezTo>
                    <a:pt x="575" y="747"/>
                    <a:pt x="566" y="799"/>
                    <a:pt x="557" y="848"/>
                  </a:cubicBezTo>
                  <a:cubicBezTo>
                    <a:pt x="548" y="897"/>
                    <a:pt x="547" y="909"/>
                    <a:pt x="536" y="934"/>
                  </a:cubicBezTo>
                  <a:cubicBezTo>
                    <a:pt x="525" y="960"/>
                    <a:pt x="505" y="985"/>
                    <a:pt x="492" y="1000"/>
                  </a:cubicBezTo>
                  <a:cubicBezTo>
                    <a:pt x="479" y="1016"/>
                    <a:pt x="475" y="1016"/>
                    <a:pt x="459" y="1025"/>
                  </a:cubicBezTo>
                  <a:cubicBezTo>
                    <a:pt x="442" y="1034"/>
                    <a:pt x="422" y="1047"/>
                    <a:pt x="394" y="1054"/>
                  </a:cubicBezTo>
                  <a:cubicBezTo>
                    <a:pt x="366" y="1062"/>
                    <a:pt x="322" y="1072"/>
                    <a:pt x="288" y="1071"/>
                  </a:cubicBezTo>
                  <a:cubicBezTo>
                    <a:pt x="254" y="1069"/>
                    <a:pt x="222" y="1059"/>
                    <a:pt x="190" y="1046"/>
                  </a:cubicBezTo>
                  <a:cubicBezTo>
                    <a:pt x="158" y="1033"/>
                    <a:pt x="117" y="1003"/>
                    <a:pt x="97" y="992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338880" y="7958880"/>
              <a:ext cx="36360" cy="349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338880" y="7970040"/>
              <a:ext cx="36360" cy="1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36120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345000" y="7961400"/>
              <a:ext cx="7920" cy="31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636120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345000" y="7974000"/>
              <a:ext cx="7920" cy="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03760" y="8029440"/>
              <a:ext cx="51120" cy="12960"/>
            </a:xfrm>
            <a:prstGeom prst="flowChartAlternateProcess">
              <a:avLst/>
            </a:prstGeom>
            <a:solidFill>
              <a:srgbClr val="5f5f5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03760" y="8061120"/>
              <a:ext cx="51120" cy="32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97640" y="8053200"/>
              <a:ext cx="65160" cy="7920"/>
            </a:xfrm>
            <a:custGeom>
              <a:avLst/>
              <a:gdLst/>
              <a:ahLst/>
              <a:rect l="l" t="t" r="r" b="b"/>
              <a:pathLst>
                <a:path w="725" h="91">
                  <a:moveTo>
                    <a:pt x="0" y="0"/>
                  </a:moveTo>
                  <a:lnTo>
                    <a:pt x="90" y="91"/>
                  </a:lnTo>
                  <a:lnTo>
                    <a:pt x="635" y="91"/>
                  </a:lnTo>
                  <a:lnTo>
                    <a:pt x="7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b5b5b5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00880" y="8064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00880" y="80643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08800" y="80722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00880" y="80802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00880" y="808020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08800" y="808812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500880" y="809460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00880" y="809460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08800" y="810252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00880" y="811044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00880" y="811044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08800" y="811836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00880" y="812628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00880" y="812628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08800" y="81342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500880" y="8142120"/>
              <a:ext cx="54000" cy="648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00880" y="814212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08800" y="814860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00880" y="815652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00880" y="815652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08800" y="816444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00880" y="81723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500880" y="8172360"/>
              <a:ext cx="54000" cy="1440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08800" y="8180280"/>
              <a:ext cx="46080" cy="648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00880" y="8186760"/>
              <a:ext cx="54000" cy="7920"/>
            </a:xfrm>
            <a:custGeom>
              <a:avLst/>
              <a:gdLst/>
              <a:ahLst/>
              <a:rect l="l" t="t" r="r" b="b"/>
              <a:pathLst>
                <a:path w="635" h="90">
                  <a:moveTo>
                    <a:pt x="0" y="90"/>
                  </a:moveTo>
                  <a:lnTo>
                    <a:pt x="91" y="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00880" y="8186760"/>
              <a:ext cx="54000" cy="15840"/>
            </a:xfrm>
            <a:custGeom>
              <a:avLst/>
              <a:gdLst/>
              <a:ahLst/>
              <a:rect l="l" t="t" r="r" b="b"/>
              <a:pathLst>
                <a:path w="635" h="181">
                  <a:moveTo>
                    <a:pt x="0" y="90"/>
                  </a:moveTo>
                  <a:lnTo>
                    <a:pt x="91" y="181"/>
                  </a:lnTo>
                  <a:lnTo>
                    <a:pt x="545" y="90"/>
                  </a:lnTo>
                  <a:lnTo>
                    <a:pt x="63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08800" y="8194680"/>
              <a:ext cx="46080" cy="7920"/>
            </a:xfrm>
            <a:custGeom>
              <a:avLst/>
              <a:gdLst/>
              <a:ahLst/>
              <a:rect l="l" t="t" r="r" b="b"/>
              <a:pathLst>
                <a:path w="544" h="91">
                  <a:moveTo>
                    <a:pt x="0" y="91"/>
                  </a:moveTo>
                  <a:lnTo>
                    <a:pt x="544" y="91"/>
                  </a:lnTo>
                  <a:lnTo>
                    <a:pt x="454" y="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00880" y="8202600"/>
              <a:ext cx="54000" cy="38160"/>
            </a:xfrm>
            <a:custGeom>
              <a:avLst/>
              <a:gdLst/>
              <a:ahLst/>
              <a:rect l="l" t="t" r="r" b="b"/>
              <a:pathLst>
                <a:path w="635" h="454">
                  <a:moveTo>
                    <a:pt x="88" y="1"/>
                  </a:moveTo>
                  <a:lnTo>
                    <a:pt x="0" y="91"/>
                  </a:lnTo>
                  <a:lnTo>
                    <a:pt x="119" y="454"/>
                  </a:lnTo>
                  <a:lnTo>
                    <a:pt x="516" y="454"/>
                  </a:lnTo>
                  <a:lnTo>
                    <a:pt x="635" y="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b5b5b5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514920" y="8209080"/>
              <a:ext cx="1764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519600" y="8029440"/>
              <a:ext cx="24120" cy="12960"/>
            </a:xfrm>
            <a:prstGeom prst="flowChartAlternateProcess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97640" y="8042400"/>
              <a:ext cx="65160" cy="108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777777"/>
                </a:gs>
                <a:gs pos="100000">
                  <a:srgbClr val="3b3b3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65960" y="7921440"/>
              <a:ext cx="126720" cy="120960"/>
            </a:xfrm>
            <a:custGeom>
              <a:avLst/>
              <a:gdLst/>
              <a:ahLst/>
              <a:rect l="l" t="t" r="r" b="b"/>
              <a:pathLst>
                <a:path w="1326" h="1185">
                  <a:moveTo>
                    <a:pt x="229" y="879"/>
                  </a:moveTo>
                  <a:cubicBezTo>
                    <a:pt x="214" y="834"/>
                    <a:pt x="173" y="724"/>
                    <a:pt x="137" y="611"/>
                  </a:cubicBezTo>
                  <a:cubicBezTo>
                    <a:pt x="101" y="498"/>
                    <a:pt x="0" y="298"/>
                    <a:pt x="13" y="199"/>
                  </a:cubicBezTo>
                  <a:cubicBezTo>
                    <a:pt x="26" y="100"/>
                    <a:pt x="90" y="38"/>
                    <a:pt x="213" y="19"/>
                  </a:cubicBezTo>
                  <a:cubicBezTo>
                    <a:pt x="336" y="0"/>
                    <a:pt x="604" y="82"/>
                    <a:pt x="750" y="86"/>
                  </a:cubicBezTo>
                  <a:cubicBezTo>
                    <a:pt x="896" y="90"/>
                    <a:pt x="1000" y="21"/>
                    <a:pt x="1092" y="42"/>
                  </a:cubicBezTo>
                  <a:cubicBezTo>
                    <a:pt x="1184" y="63"/>
                    <a:pt x="1278" y="136"/>
                    <a:pt x="1302" y="210"/>
                  </a:cubicBezTo>
                  <a:cubicBezTo>
                    <a:pt x="1326" y="284"/>
                    <a:pt x="1264" y="391"/>
                    <a:pt x="1234" y="486"/>
                  </a:cubicBezTo>
                  <a:cubicBezTo>
                    <a:pt x="1204" y="581"/>
                    <a:pt x="1147" y="703"/>
                    <a:pt x="1122" y="778"/>
                  </a:cubicBezTo>
                  <a:cubicBezTo>
                    <a:pt x="1097" y="853"/>
                    <a:pt x="1097" y="883"/>
                    <a:pt x="1086" y="934"/>
                  </a:cubicBezTo>
                  <a:cubicBezTo>
                    <a:pt x="1075" y="985"/>
                    <a:pt x="1072" y="1043"/>
                    <a:pt x="1058" y="1082"/>
                  </a:cubicBezTo>
                  <a:cubicBezTo>
                    <a:pt x="1044" y="1121"/>
                    <a:pt x="1049" y="1155"/>
                    <a:pt x="1002" y="1170"/>
                  </a:cubicBezTo>
                  <a:cubicBezTo>
                    <a:pt x="955" y="1185"/>
                    <a:pt x="849" y="1171"/>
                    <a:pt x="774" y="1170"/>
                  </a:cubicBezTo>
                  <a:cubicBezTo>
                    <a:pt x="699" y="1169"/>
                    <a:pt x="624" y="1168"/>
                    <a:pt x="550" y="1166"/>
                  </a:cubicBezTo>
                  <a:cubicBezTo>
                    <a:pt x="476" y="1164"/>
                    <a:pt x="372" y="1175"/>
                    <a:pt x="329" y="1155"/>
                  </a:cubicBezTo>
                  <a:cubicBezTo>
                    <a:pt x="286" y="1135"/>
                    <a:pt x="297" y="1066"/>
                    <a:pt x="289" y="1043"/>
                  </a:cubicBezTo>
                </a:path>
              </a:pathLst>
            </a:custGeom>
            <a:gradFill rotWithShape="0">
              <a:gsLst>
                <a:gs pos="0">
                  <a:srgbClr val="fefec1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05560" y="7926480"/>
              <a:ext cx="25200" cy="3780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68" y="3"/>
                    <a:pt x="137" y="7"/>
                    <a:pt x="182" y="45"/>
                  </a:cubicBezTo>
                  <a:cubicBezTo>
                    <a:pt x="227" y="83"/>
                    <a:pt x="249" y="155"/>
                    <a:pt x="272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70640" y="7959600"/>
              <a:ext cx="119160" cy="46080"/>
            </a:xfrm>
            <a:custGeom>
              <a:avLst/>
              <a:gdLst/>
              <a:ahLst/>
              <a:rect l="l" t="t" r="r" b="b"/>
              <a:pathLst>
                <a:path w="892" h="356">
                  <a:moveTo>
                    <a:pt x="0" y="4"/>
                  </a:moveTo>
                  <a:lnTo>
                    <a:pt x="105" y="353"/>
                  </a:lnTo>
                  <a:lnTo>
                    <a:pt x="768" y="356"/>
                  </a:lnTo>
                  <a:lnTo>
                    <a:pt x="89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6489720" y="7963560"/>
              <a:ext cx="79200" cy="334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6489720" y="7974000"/>
              <a:ext cx="79200" cy="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6538680" y="7966080"/>
              <a:ext cx="176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6503760" y="7966080"/>
              <a:ext cx="15840" cy="30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538680" y="7977240"/>
              <a:ext cx="176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6503760" y="7977240"/>
              <a:ext cx="15840" cy="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83200" y="7975440"/>
              <a:ext cx="579600" cy="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50000">
                  <a:srgbClr val="c8c8c8"/>
                </a:gs>
                <a:gs pos="100000">
                  <a:srgbClr val="5f5f5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0" name="" descr=""/>
            <p:cNvPicPr/>
            <p:nvPr/>
          </p:nvPicPr>
          <p:blipFill>
            <a:blip r:embed="rId100"/>
            <a:stretch/>
          </p:blipFill>
          <p:spPr>
            <a:xfrm>
              <a:off x="6006960" y="9147240"/>
              <a:ext cx="623880" cy="26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21:15:38Z</dcterms:created>
  <dc:creator>Alessandro - Ivan</dc:creator>
  <dc:description/>
  <dc:language>en-US</dc:language>
  <cp:lastModifiedBy> Prof. Ivan Andrade</cp:lastModifiedBy>
  <cp:lastPrinted>2000-03-26T14:51:06Z</cp:lastPrinted>
  <dcterms:modified xsi:type="dcterms:W3CDTF">2007-01-09T20:19:46Z</dcterms:modified>
  <cp:revision>47</cp:revision>
  <dc:subject/>
  <dc:title>Slide sem título </dc:title>
</cp:coreProperties>
</file>